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BD195D-C6CF-4AAC-93CF-8B495075886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419E84-A56D-4481-B59F-8324EC3E085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CB655C-B504-4729-B98C-6332EB50A44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FC0543-60DF-42A1-8CD7-31AEF1F673A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0D8FEE-5848-4A55-B63B-B5DA6F3A291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653D4E-368B-413A-9A66-C4DDEE9B950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D80DF0-B4EE-4C30-881C-9A1856FB965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86DCD7-058C-4C2A-BDA6-D9E70C8A408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B8893C-4C9E-47EB-B011-82328F253CF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D2B830-CE9B-4E25-862F-6B32CE41123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FAFBD3-A09D-4A31-B0D8-EA7B4FB1302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EFCDBF-3CF8-443B-A044-E64A944E8EC2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074C02-0C51-485D-B8BD-2D568B1F0EB9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AFB825-1190-4BC0-8DBD-912A33604F63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B9EBFB-A5DE-46EA-A74B-E8836384AE9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99304F-4996-482C-8803-8DD066CD35E1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EF8F0A-6F3D-4034-975A-951D222F8FE5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9C37C9-48FB-4043-93E0-C2D425C9119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5CD212-169C-425F-A2A6-9D8F9BDE784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5E8D71-DC48-4BFB-AD02-1B503157080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661F5C-0EFA-4BD5-9511-7D491648B5C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B03-9B95-4293-B582-8F36C4ED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BD7-3823-4E87-B2B9-59735FE0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003-E591-4429-9E03-F9CC9B77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B9C-B468-4C57-9CE8-C6E27D7D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45BE-1300-4B53-9A8B-8E792EA5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D075-E580-4197-972E-40FD9B4B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5B1E-6ABA-49A8-9919-DF9AC2B0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3C20-01B6-410F-8826-7F5D1B54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A4CB-5EBC-4292-9685-EC6CEA3B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37D4-0B59-4F8F-AC5E-969CF26E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EA0A-AC5F-47B6-ADB1-FE2524AE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7F0-7791-46BD-9AED-31913089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5C0E-7D4F-407D-98B3-D668B867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A516-D516-4AE2-9E89-7C758240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45B1-374D-45D9-BB1F-E53B6D92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E074-1D6D-43B7-B7EE-E69EF6D4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EFA2-83A4-4C3E-BD1A-9F39A3BC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C36-106A-430B-BCF3-2D45CDFC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B63-6D65-4836-9682-379262C7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ADD-C19F-4897-884D-705DA463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BC2-CBDB-4BF1-997A-475C995F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393-1C10-456C-8C19-D5E6E42E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EAA-016A-49AA-8358-58A8619A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528-D3F1-49B3-8460-8C97AAA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0C12-89EA-47A0-934F-C8476C078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1759-E60F-4618-BFCA-B1F49B06D943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mputing cosine sco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9" name="Content Placeholder 8" descr="cosinescore.gif"/>
          <p:cNvPicPr/>
          <p:nvPr/>
        </p:nvPicPr>
        <p:blipFill>
          <a:blip r:embed="rId1"/>
          <a:stretch/>
        </p:blipFill>
        <p:spPr>
          <a:xfrm>
            <a:off x="539640" y="1557360"/>
            <a:ext cx="81536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term t, we have in memory the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its posting list, so the IDF is implicitly availabl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is tipically small and thus stored with unary/gamma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efor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ammin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computation of the cos(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 not necessarily contain all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t has many docs from among the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he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select A’s do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term (obvious… as done before!)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high-idf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mpion lists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ancy hits: for complex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1: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multi-term queries, compute scores for docs containing several of the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, at least q-1 out of q terms of the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mposes a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ft conjunction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any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01040" y="273384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38120" y="3267000"/>
            <a:ext cx="1171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1880" y="380052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3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194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9" name="Group 51"/>
          <p:cNvGrpSpPr/>
          <p:nvPr/>
        </p:nvGrpSpPr>
        <p:grpSpPr>
          <a:xfrm>
            <a:off x="3276720" y="3267000"/>
            <a:ext cx="4945680" cy="459720"/>
            <a:chOff x="3276720" y="3267000"/>
            <a:chExt cx="4945680" cy="459720"/>
          </a:xfrm>
        </p:grpSpPr>
        <p:grpSp>
          <p:nvGrpSpPr>
            <p:cNvPr id="200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201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2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3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4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5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06" name="Text Box 32"/>
            <p:cNvSpPr/>
            <p:nvPr/>
          </p:nvSpPr>
          <p:spPr>
            <a:xfrm>
              <a:off x="34128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40986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34"/>
            <p:cNvSpPr/>
            <p:nvPr/>
          </p:nvSpPr>
          <p:spPr>
            <a:xfrm>
              <a:off x="4674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Text Box 35"/>
            <p:cNvSpPr/>
            <p:nvPr/>
          </p:nvSpPr>
          <p:spPr>
            <a:xfrm>
              <a:off x="525744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5817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 Box 37"/>
            <p:cNvSpPr/>
            <p:nvPr/>
          </p:nvSpPr>
          <p:spPr>
            <a:xfrm>
              <a:off x="64256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Text Box 38"/>
            <p:cNvSpPr/>
            <p:nvPr/>
          </p:nvSpPr>
          <p:spPr>
            <a:xfrm>
              <a:off x="70844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769428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4" name="Group 52"/>
          <p:cNvGrpSpPr/>
          <p:nvPr/>
        </p:nvGrpSpPr>
        <p:grpSpPr>
          <a:xfrm>
            <a:off x="3276720" y="2733840"/>
            <a:ext cx="4876560" cy="459720"/>
            <a:chOff x="3276720" y="2733840"/>
            <a:chExt cx="4876560" cy="459720"/>
          </a:xfrm>
        </p:grpSpPr>
        <p:grpSp>
          <p:nvGrpSpPr>
            <p:cNvPr id="215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16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7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8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9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21" name="Text Box 40"/>
            <p:cNvSpPr/>
            <p:nvPr/>
          </p:nvSpPr>
          <p:spPr>
            <a:xfrm>
              <a:off x="342864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Text Box 41"/>
            <p:cNvSpPr/>
            <p:nvPr/>
          </p:nvSpPr>
          <p:spPr>
            <a:xfrm>
              <a:off x="39891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Text Box 42"/>
            <p:cNvSpPr/>
            <p:nvPr/>
          </p:nvSpPr>
          <p:spPr>
            <a:xfrm>
              <a:off x="46479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517968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Text Box 44"/>
            <p:cNvSpPr/>
            <p:nvPr/>
          </p:nvSpPr>
          <p:spPr>
            <a:xfrm>
              <a:off x="581616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Text Box 45"/>
            <p:cNvSpPr/>
            <p:nvPr/>
          </p:nvSpPr>
          <p:spPr>
            <a:xfrm>
              <a:off x="642564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7" name="Text Box 46"/>
            <p:cNvSpPr/>
            <p:nvPr/>
          </p:nvSpPr>
          <p:spPr>
            <a:xfrm>
              <a:off x="6854040" y="27338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8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9" name="Text Box 48"/>
          <p:cNvSpPr/>
          <p:nvPr/>
        </p:nvSpPr>
        <p:spPr>
          <a:xfrm>
            <a:off x="32745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38937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33800" y="2133720"/>
            <a:ext cx="1203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nton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4" name="Group 52"/>
          <p:cNvGrpSpPr/>
          <p:nvPr/>
        </p:nvGrpSpPr>
        <p:grpSpPr>
          <a:xfrm>
            <a:off x="3276720" y="2133720"/>
            <a:ext cx="4876560" cy="459720"/>
            <a:chOff x="3276720" y="2133720"/>
            <a:chExt cx="4876560" cy="459720"/>
          </a:xfrm>
        </p:grpSpPr>
        <p:grpSp>
          <p:nvGrpSpPr>
            <p:cNvPr id="235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7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1" name="Text Box 40"/>
            <p:cNvSpPr/>
            <p:nvPr/>
          </p:nvSpPr>
          <p:spPr>
            <a:xfrm>
              <a:off x="344124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Text Box 41"/>
            <p:cNvSpPr/>
            <p:nvPr/>
          </p:nvSpPr>
          <p:spPr>
            <a:xfrm>
              <a:off x="39891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42"/>
            <p:cNvSpPr/>
            <p:nvPr/>
          </p:nvSpPr>
          <p:spPr>
            <a:xfrm>
              <a:off x="46479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43"/>
            <p:cNvSpPr/>
            <p:nvPr/>
          </p:nvSpPr>
          <p:spPr>
            <a:xfrm>
              <a:off x="517968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44"/>
            <p:cNvSpPr/>
            <p:nvPr/>
          </p:nvSpPr>
          <p:spPr>
            <a:xfrm>
              <a:off x="581616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45"/>
            <p:cNvSpPr/>
            <p:nvPr/>
          </p:nvSpPr>
          <p:spPr>
            <a:xfrm>
              <a:off x="642564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Text Box 46"/>
            <p:cNvSpPr/>
            <p:nvPr/>
          </p:nvSpPr>
          <p:spPr>
            <a:xfrm>
              <a:off x="6854040" y="2133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49" name="Text Box 50"/>
          <p:cNvSpPr/>
          <p:nvPr/>
        </p:nvSpPr>
        <p:spPr>
          <a:xfrm>
            <a:off x="455472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0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51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54" name="Group 90" descr=""/>
          <p:cNvPicPr/>
          <p:nvPr/>
        </p:nvPicPr>
        <p:blipFill>
          <a:blip r:embed="rId1"/>
          <a:stretch/>
        </p:blipFill>
        <p:spPr>
          <a:xfrm>
            <a:off x="3882960" y="2206800"/>
            <a:ext cx="1841400" cy="1993680"/>
          </a:xfrm>
          <a:prstGeom prst="rect">
            <a:avLst/>
          </a:prstGeom>
          <a:ln w="0">
            <a:noFill/>
          </a:ln>
        </p:spPr>
      </p:pic>
      <p:pic>
        <p:nvPicPr>
          <p:cNvPr id="255" name="Group 91" descr=""/>
          <p:cNvPicPr/>
          <p:nvPr/>
        </p:nvPicPr>
        <p:blipFill>
          <a:blip r:embed="rId2"/>
          <a:stretch/>
        </p:blipFill>
        <p:spPr>
          <a:xfrm>
            <a:off x="4492800" y="2206800"/>
            <a:ext cx="1841400" cy="19936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2: 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igh-IDF means short posting lists = rare te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don</a:t>
            </a:r>
            <a:r>
              <a:rPr b="0" lang="ja-JP" sz="2600" spc="-1" strike="noStrike" u="sng">
                <a:solidFill>
                  <a:srgbClr val="000000"/>
                </a:solidFill>
                <a:uFillTx/>
                <a:latin typeface="Lucida Sans"/>
              </a:rPr>
              <a:t>’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nly accumulate ranking for the documents in those posting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0" name="Content Placeholder 8" descr="cosinescore.gif"/>
          <p:cNvPicPr/>
          <p:nvPr/>
        </p:nvPicPr>
        <p:blipFill>
          <a:blip r:embed="rId1"/>
          <a:srcRect l="0" t="26374" r="0" b="34765"/>
          <a:stretch/>
        </p:blipFill>
        <p:spPr>
          <a:xfrm>
            <a:off x="2195640" y="5140440"/>
            <a:ext cx="6556320" cy="1620720"/>
          </a:xfrm>
          <a:prstGeom prst="rect">
            <a:avLst/>
          </a:prstGeom>
          <a:ln w="0">
            <a:noFill/>
          </a:ln>
        </p:spPr>
      </p:pic>
      <p:sp>
        <p:nvSpPr>
          <p:cNvPr id="261" name="Rettangolo 1"/>
          <p:cNvSpPr/>
          <p:nvPr/>
        </p:nvSpPr>
        <p:spPr>
          <a:xfrm>
            <a:off x="3419640" y="5140440"/>
            <a:ext cx="865080" cy="376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3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 is a binary vecto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3640" y="1626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,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by docID = decr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Tak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docs of their F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of these docs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deling autho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ign to each document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query-independ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quality scor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[0,1] to each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note this by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(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hus, a quantity like the number of citations (?) is scaled into [0,1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hampion lists in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combine champion list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Or, maintain for each term a champion list of th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&gt;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docs with highes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g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f-idf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</a:rPr>
              <a:t>t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(d) may be the Page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ek top-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esults from only the docs in these champion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5" name="AutoShape 5"/>
          <p:cNvCxnSpPr>
            <a:stCxn id="304" idx="1"/>
            <a:endCxn id="304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9" name="AutoShape 45"/>
          <p:cNvCxnSpPr>
            <a:stCxn id="308" idx="5"/>
            <a:endCxn id="288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AutoShape 46"/>
          <p:cNvCxnSpPr>
            <a:stCxn id="308" idx="6"/>
            <a:endCxn id="289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AutoShape 48"/>
          <p:cNvCxnSpPr>
            <a:stCxn id="308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AutoShape 50"/>
          <p:cNvCxnSpPr>
            <a:stCxn id="308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AutoShape 51"/>
          <p:cNvCxnSpPr>
            <a:stCxn id="308" idx="1"/>
            <a:endCxn id="282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AutoShape 52"/>
          <p:cNvCxnSpPr>
            <a:stCxn id="308" idx="1"/>
            <a:endCxn id="283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AutoShape 53"/>
          <p:cNvCxnSpPr>
            <a:stCxn id="301" idx="0"/>
            <a:endCxn id="308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16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SimSu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=3 (say) nearest lead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From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E-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Arial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Arial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Arial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0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at relevance feedback i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st us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the user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u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wrong in binary vect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15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347920" y="34383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4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452480" y="2133360"/>
            <a:ext cx="468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45" name="AutoShape 6"/>
          <p:cNvCxnSpPr/>
          <p:nvPr/>
        </p:nvCxnSpPr>
        <p:spPr>
          <a:xfrm>
            <a:off x="2192400" y="353808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7"/>
          <p:cNvCxnSpPr/>
          <p:nvPr/>
        </p:nvCxnSpPr>
        <p:spPr>
          <a:xfrm flipV="1">
            <a:off x="2192040" y="163296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8"/>
          <p:cNvCxnSpPr/>
          <p:nvPr/>
        </p:nvCxnSpPr>
        <p:spPr>
          <a:xfrm flipH="1">
            <a:off x="1331640" y="3537360"/>
            <a:ext cx="8611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9"/>
          <p:cNvCxnSpPr/>
          <p:nvPr/>
        </p:nvCxnSpPr>
        <p:spPr>
          <a:xfrm flipV="1">
            <a:off x="2192040" y="285192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" name="AutoShape 11"/>
          <p:cNvCxnSpPr/>
          <p:nvPr/>
        </p:nvCxnSpPr>
        <p:spPr>
          <a:xfrm flipV="1">
            <a:off x="2192400" y="1988640"/>
            <a:ext cx="651600" cy="155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0" name="Text Box 14"/>
          <p:cNvSpPr/>
          <p:nvPr/>
        </p:nvSpPr>
        <p:spPr>
          <a:xfrm>
            <a:off x="4316040" y="3500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106800" y="1709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024800" y="2624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740960" y="1557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122120" y="3573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568600" y="278136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2411280" y="2997360"/>
            <a:ext cx="274680" cy="396720"/>
          </a:xfrm>
          <a:custGeom>
            <a:avLst/>
            <a:gdLst/>
            <a:ahLst/>
            <a:rect l="l" t="t" r="r" b="b"/>
            <a:pathLst>
              <a:path w="194703" h="328416">
                <a:moveTo>
                  <a:pt x="0" y="7877"/>
                </a:moveTo>
                <a:cubicBezTo>
                  <a:pt x="83365" y="21771"/>
                  <a:pt x="94596" y="0"/>
                  <a:pt x="126124" y="70939"/>
                </a:cubicBezTo>
                <a:cubicBezTo>
                  <a:pt x="139623" y="101311"/>
                  <a:pt x="157655" y="165532"/>
                  <a:pt x="157655" y="165532"/>
                </a:cubicBezTo>
                <a:cubicBezTo>
                  <a:pt x="141366" y="328416"/>
                  <a:pt x="194703" y="323187"/>
                  <a:pt x="126124" y="323187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4365720"/>
          <a:ext cx="4572000" cy="14824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57"/>
          <p:cNvSpPr/>
          <p:nvPr/>
        </p:nvSpPr>
        <p:spPr>
          <a:xfrm>
            <a:off x="557640" y="6165720"/>
            <a:ext cx="81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) = 2*4 + 0*0 + 3*1 / sqrt{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* sqrt{ 4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1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0,75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40°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5365800" y="2743200"/>
            <a:ext cx="3666960" cy="219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Lucida Sans"/>
              </a:rPr>
              <a:t>Computational Proble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pages .it   ≈ a few bill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 terms     ≈ some ml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#op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1 op/n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ns ≈ 1 week !!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 for length-normalized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length-normalized vectors, cosine similarity is simply the dot product (or scalar product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q, d length-normaliz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Content Placeholder 3"/>
              <p:cNvSpPr txBox="1"/>
              <p:nvPr/>
            </p:nvSpPr>
            <p:spPr>
              <a:xfrm>
                <a:off x="1363680" y="3124080"/>
                <a:ext cx="5483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1-17T06:16:30Z</dcterms:modified>
  <cp:revision>1176</cp:revision>
  <dc:subject/>
  <dc:title>Web Algorithmics</dc:title>
</cp:coreProperties>
</file>